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F8C-D6B6-4FC7-9BFF-475272D3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D091-EB17-4E93-84E4-D98B9361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A9FF-5FB1-4161-802C-38D903C7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770-D272-4962-94F0-6746E25A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C13B-ADB2-4470-B999-EAA69E4B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9F6A-3A2D-400C-9C54-3CAF6565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99D4-7C29-4EFA-8D34-037A9664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71D5-3798-429A-A731-6F2D48D4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D80A-34F5-4727-8DC2-D8A03DB9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1703-D0B1-4A07-A239-9C929C35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227B-1A6A-4F66-B7AC-E46D3690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ABD-ABC3-478B-A422-1DAA7F59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48C3-9D16-4023-BB4F-C191D6AF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EF4D-8BDA-4D5D-A40D-57C482E5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42B8-878C-4919-A4E8-D361D232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A1DF-1B0C-40A3-B189-C41151BB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D2F0-585D-46F8-8966-42947769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3D9-F325-4167-A8FA-6490951F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6C7-5040-4808-BB78-5B291D04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FA1-3920-4ED4-AC72-B99EC451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903-670B-4177-A42B-1D068846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4DB4-BB20-4892-8F7B-CB8AF405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FB8-F34D-4D0A-8863-E6AD1C2B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D50-1755-42A3-9215-24AD439A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40C1-3B35-423C-8703-FE1338B5D037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223F-4521-4E3F-AB45-9F303E91B3CE}" type="slidenum">
              <a:rPr b="0" lang="it-IT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Il C.P.T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eaeaea"/>
                </a:solidFill>
                <a:latin typeface="Garamond"/>
              </a:rPr>
              <a:t>E’ costituito dai rappresentanti dei datori di Lavoro (ACEN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eaeaea"/>
                </a:solidFill>
                <a:latin typeface="Garamond"/>
              </a:rPr>
              <a:t>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eaeaea"/>
                </a:solidFill>
                <a:latin typeface="Garamond"/>
              </a:rPr>
              <a:t>dai rappresentanti delle tre organizzazioni sindacali  (FILLEA-CGIL, FILCA-CISL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eaeaea"/>
                </a:solidFill>
                <a:latin typeface="Garamond"/>
              </a:rPr>
              <a:t>FENEAL-UIL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Segnaposto contenuto 4" descr="claudio lavoro 301.jpg"/>
          <p:cNvPicPr/>
          <p:nvPr/>
        </p:nvPicPr>
        <p:blipFill>
          <a:blip r:embed="rId1"/>
          <a:stretch/>
        </p:blipFill>
        <p:spPr>
          <a:xfrm>
            <a:off x="457200" y="500040"/>
            <a:ext cx="8258040" cy="5786640"/>
          </a:xfrm>
          <a:prstGeom prst="rect">
            <a:avLst/>
          </a:prstGeom>
          <a:ln w="0">
            <a:noFill/>
          </a:ln>
        </p:spPr>
      </p:pic>
      <p:sp>
        <p:nvSpPr>
          <p:cNvPr id="146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Segnaposto contenuto 3" descr="claudio lavoro 041.jpg"/>
          <p:cNvPicPr/>
          <p:nvPr/>
        </p:nvPicPr>
        <p:blipFill>
          <a:blip r:embed="rId1"/>
          <a:stretch/>
        </p:blipFill>
        <p:spPr>
          <a:xfrm>
            <a:off x="642960" y="571680"/>
            <a:ext cx="7929720" cy="5857560"/>
          </a:xfrm>
          <a:prstGeom prst="rect">
            <a:avLst/>
          </a:prstGeom>
          <a:ln w="0">
            <a:noFill/>
          </a:ln>
        </p:spPr>
      </p:pic>
      <p:sp>
        <p:nvSpPr>
          <p:cNvPr id="148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egnaposto contenuto 3" descr="claudio lavoro 093.jpg"/>
          <p:cNvPicPr/>
          <p:nvPr/>
        </p:nvPicPr>
        <p:blipFill>
          <a:blip r:embed="rId1"/>
          <a:stretch/>
        </p:blipFill>
        <p:spPr>
          <a:xfrm>
            <a:off x="622440" y="514440"/>
            <a:ext cx="8021520" cy="5900760"/>
          </a:xfrm>
          <a:prstGeom prst="rect">
            <a:avLst/>
          </a:prstGeom>
          <a:ln w="0">
            <a:noFill/>
          </a:ln>
        </p:spPr>
      </p:pic>
      <p:sp>
        <p:nvSpPr>
          <p:cNvPr id="150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Segnaposto contenuto 3" descr="234a.jpg"/>
          <p:cNvPicPr/>
          <p:nvPr/>
        </p:nvPicPr>
        <p:blipFill>
          <a:blip r:embed="rId1"/>
          <a:stretch/>
        </p:blipFill>
        <p:spPr>
          <a:xfrm>
            <a:off x="928800" y="785880"/>
            <a:ext cx="7286400" cy="5357880"/>
          </a:xfrm>
          <a:prstGeom prst="rect">
            <a:avLst/>
          </a:prstGeom>
          <a:ln w="0">
            <a:noFill/>
          </a:ln>
        </p:spPr>
      </p:pic>
      <p:sp>
        <p:nvSpPr>
          <p:cNvPr id="152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Grazie per l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gentile pazienz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Claudio Cioff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CPT NAPOL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Segnaposto piè di pagin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PIM0578"/>
          <p:cNvPicPr/>
          <p:nvPr/>
        </p:nvPicPr>
        <p:blipFill>
          <a:blip r:embed="rId1"/>
          <a:stretch/>
        </p:blipFill>
        <p:spPr>
          <a:xfrm>
            <a:off x="250920" y="260280"/>
            <a:ext cx="8574120" cy="57927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4716360" y="1125360"/>
            <a:ext cx="360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Verdana"/>
              </a:rPr>
              <a:t>Pubblicazione di materiale di informazione e propaganda sui temi della salute e della sicurezz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Verdana"/>
              </a:rPr>
              <a:t>Corsi di formazione per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Verdana"/>
              </a:rPr>
              <a:t>RSPP – RLS – ADDETTI EMERGENZA  e PRIMO SOCCORS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Verdana"/>
              </a:rPr>
              <a:t>Consulenza sui luoghi di lavoro per favorire l’attuazione delle norme di sicurezza e sulle misure prevenzionali da adottare nei cantieri edil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87280" y="301140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776240" y="292428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80808"/>
                </a:solidFill>
                <a:latin typeface="Verdana"/>
              </a:rPr>
              <a:t>Cosa fa il C.P.T.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COLLABORAZIONI CON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4" descr="HPIM0063"/>
          <p:cNvPicPr/>
          <p:nvPr/>
        </p:nvPicPr>
        <p:blipFill>
          <a:blip r:embed="rId1"/>
          <a:stretch/>
        </p:blipFill>
        <p:spPr>
          <a:xfrm>
            <a:off x="768240" y="1600200"/>
            <a:ext cx="2874960" cy="4530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3857760" y="1599840"/>
            <a:ext cx="4829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eaeaea"/>
                </a:solidFill>
                <a:latin typeface="Verdana"/>
              </a:rPr>
              <a:t>RACCOLTA NOTIFICHE PRELIMINARI CON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DIREZIONE PROVINCIALE DEL LAVORO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ASL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eaeaea"/>
                </a:solidFill>
                <a:latin typeface="Verdana"/>
              </a:rPr>
              <a:t>FORMAZIONE CON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INAIL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SCUOLE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eaeaea"/>
                </a:solidFill>
                <a:latin typeface="Verdana"/>
              </a:rPr>
              <a:t>CONSULENZA  NEI  CANTIERI  CON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SIRENA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Nello specifico con SIRENA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71680" y="1599840"/>
            <a:ext cx="8115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Verdana"/>
              </a:rPr>
              <a:t>IL PROTOCOLLO PREVEDE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Verdana"/>
              </a:rPr>
              <a:t>CONSULENZA NEI CANTIERI ESPLETATA MEDIANTE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Verdana"/>
              </a:rPr>
              <a:t>1 SOPRALLUOGO CONGIUNT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Verdana"/>
              </a:rPr>
              <a:t>MONITORAGGIO SVOLGIMENTO ATTIVITA’ CANTIE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Verdana"/>
              </a:rPr>
              <a:t>EVENTUALE SEGNALAZIONE CRITICITA’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ED ECCO LE MAGGIORI CRITICITA’…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42960" y="1599840"/>
            <a:ext cx="8043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SOPRALLUOGHI  ESEGUITI nell’ ambito del COMUNE NAPOL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CANTIERI CENTRO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126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CANTIERI PERIFERIE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  5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CRITICITA’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Cantieri Centro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126 cantier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271 sopralluogh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1354 infrazioni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NUMERO INFRAZIONI PER SOPRALLUOGO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TOTALE 1354/271       (media 5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1 visita: 906/113    (media 8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2 visita: 312/97      (media 3,2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3 visita: 136/71      (media 2,2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Cantieri Periferie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52 cantier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102 sopralluogh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835 infrazion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NUMERO INFRAZIONI PER SOPRALLUOGO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TOTALE 835/102       (media 8.18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1 visita: 541/46      (media 11,7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2 visita: 208/35      (media   6,0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3 visita:   86/21      (media   4,1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TIPOLOGIE DI INFRAZIONI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42960" y="1599840"/>
            <a:ext cx="8043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MANCANZA DEGLI ADEMPIMENTI o LORO NON CONFORMITA’ ALLE NORME . 51%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MANCATO UTILIZZO D.P.I............ 13%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PERICOLO CADUTA DALL’ALTO……. 15%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ALTRE…………………………………………….. 21%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L’impegno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14240" y="1599840"/>
            <a:ext cx="7972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Seminari informativi per datori di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lavoro e professionisti del setto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Attività di informazione e formazione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lavoratori mediante realizzazione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percorsi formativi e simulazioni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multimedial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attività di formazione nelle scuo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L’obiettivo da raggiungere </a:t>
            </a:r>
            <a:br>
              <a:rPr sz="2800"/>
            </a:b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attraverso la distruzione di situazioni </a:t>
            </a:r>
            <a:br>
              <a:rPr sz="2800"/>
            </a:b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del tipo:………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Segnaposto contenuto 12" descr="claudio lavoro 351.jpg"/>
          <p:cNvPicPr/>
          <p:nvPr/>
        </p:nvPicPr>
        <p:blipFill>
          <a:blip r:embed="rId1"/>
          <a:stretch/>
        </p:blipFill>
        <p:spPr>
          <a:xfrm>
            <a:off x="1666800" y="1600200"/>
            <a:ext cx="6067440" cy="4530600"/>
          </a:xfrm>
          <a:prstGeom prst="rect">
            <a:avLst/>
          </a:prstGeom>
          <a:ln w="0">
            <a:noFill/>
          </a:ln>
        </p:spPr>
      </p:pic>
      <p:sp>
        <p:nvSpPr>
          <p:cNvPr id="144" name="Segnaposto piè di pagina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14:22:26Z</dcterms:created>
  <dc:creator>Cioffi</dc:creator>
  <dc:description/>
  <dc:language>en-US</dc:language>
  <cp:lastModifiedBy> </cp:lastModifiedBy>
  <dcterms:modified xsi:type="dcterms:W3CDTF">2010-01-20T11:54:30Z</dcterms:modified>
  <cp:revision>22</cp:revision>
  <dc:subject/>
  <dc:title>Il Comitato Paritetico Territoriale per la Prevenzione Infortuni, l’Igiene e l’Ambiente di Lavoro  della provincia di Napoli</dc:title>
</cp:coreProperties>
</file>